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19240" y="-36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07560" y="739440"/>
            <a:ext cx="4916520" cy="36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344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19240" y="936108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9E193-C2A6-4E31-9672-4B2DBFA9E6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7920" y="7398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7920" y="739800"/>
            <a:ext cx="491976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0BA-445E-4EA5-B5EC-30CC622F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152-8097-45A5-844B-5B6419D2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CF5-F91D-4CCD-BA3F-0A0B8090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16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16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5FD-55EA-4F81-ABE9-30765A64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84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D64-BD87-4A76-A87E-BA4B915D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568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416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568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416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165-7FBD-4BA1-B35D-177800F4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65D-A49E-4F14-B3DF-CD926EC7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17C-77A9-4EF9-8CFE-727061D8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84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EDF-2A90-4E92-9323-DBDA4B37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B9F-E745-497B-802E-AEE20E09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065-D091-46E8-B9F9-7952B893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A99-75F9-47CB-A34D-6632CBED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1760" y="6059520"/>
            <a:ext cx="901224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2" marL="11430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3" marL="16002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4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5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6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527520"/>
            <a:ext cx="151272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040" y="6527520"/>
            <a:ext cx="41799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120" y="6527880"/>
            <a:ext cx="903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43764780-7672-4B53-A569-79E416D62F34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61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3600" cy="1722240"/>
            <a:chOff x="228600" y="5000760"/>
            <a:chExt cx="8913600" cy="17222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5480" y="5051160"/>
              <a:ext cx="5256720" cy="16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160" cy="17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4200" indent="-2142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Utah MT"/>
              </a:rPr>
              <a:t>Towards real-time e-VLBI operation: scheduling, monitoring  and calibra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Bitstream Charter"/>
                <a:ea typeface="Arial"/>
              </a:rPr>
              <a:t>De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Bitstream Charter"/>
                <a:ea typeface="Arial"/>
              </a:rPr>
              <a:t>EXPReS Scientific Programmer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ibration (3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tConvert adapted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handles Westerbork data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includes TSYS and GAINC tab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Results used in Classic AIP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291-6A89-4413-B12C-1F8E624767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Dynamic schedul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ations' participation sough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Dynamic monitoring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Mostly work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ations' participation sough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Almost real-time callibration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Data fetching tools w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ill some wrinkles with classic AIP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12E-74C4-48DC-9387-158EE10A7A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atch” mode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0AE-FC5A-46C3-86B6-D1D7B1FBF2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ynamic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C66-AEEB-485B-A60D-D9A7613C02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eld System (1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301920" cy="327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37160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Originally written for the HP1000/R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Now emulated on Un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Maintained by Ed Himw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Not a traditional JIVE conc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669-E779-444E-8981-13ED46FABB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eld System (2/3): </a:t>
            </a:r>
            <a:r>
              <a:rPr b="0" lang="en-US" sz="3600" spc="-1" strike="noStrike">
                <a:solidFill>
                  <a:srgbClr val="333399"/>
                </a:solidFill>
                <a:latin typeface="Courier New"/>
              </a:rPr>
              <a:t>drud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A FS program used to process schedu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Customised for individual station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Menu-driven, interactive FORTRAN progra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Now scripted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ython/expec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1D7-564A-46DC-8AAC-B3B0B056CF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eld System (3/3): Current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Dynamic workflow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chedule distribution from JIVE (rsync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chedule processing (-&gt; SNAP file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chedule injection to Field Syste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All tested on Westerb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Not all at the same tim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ingle dish mod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New participants actively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EF1-39C9-4DA8-A70E-36CA4B57FE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ynamic monit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Existing piec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ield system produces logs of system temperatur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S includes log plott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pl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Modifications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1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ync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 fetches logs to JIVE in real-tim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Plotter rewritten in Python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Multiple stations in parallel (display at JIVE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Working with Westerb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Additional participants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F3E-4B4B-47FA-B218-E12986FB23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ibration (1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esterbork produces synthesis array data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ot usually used for VLBI, but could b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ata is available “almost live”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oadmap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ind and download data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cess data (from MS to IDI-FITS format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alibrat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5C5-B49D-4476-9BA5-B6D805F63E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ibration (2/3): selecting dat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00800" cy="5121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98800" y="284004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DC9-C6A6-4B34-B996-6E9419FB91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id Brouwer</cp:lastModifiedBy>
  <dcterms:modified xsi:type="dcterms:W3CDTF">2008-01-29T08:06:38Z</dcterms:modified>
  <cp:revision>1</cp:revision>
  <dc:subject/>
  <dc:title>Slide 1</dc:title>
</cp:coreProperties>
</file>